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BE58-4999-483C-B4E0-5AF914554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5954-FE3E-41D4-8A9E-5E589CBDF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BD20-38B7-4D2D-B72B-E2C5D8976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7C54-7D96-46A1-9323-B60BEE049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1B74-EE83-427E-BF6D-1C2E47F30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20BF-F72E-4D00-A170-7B8E87CE5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C517-31BD-406A-BF3A-C405C69E7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D48B-C260-4CB5-954A-31C3EC912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AF38-E5A1-4CCB-B5D2-BFBAE366D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D751-191E-4DAE-8FB3-9E1113CD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6574-175F-4A41-935D-4B0A8811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7D96-131C-41BD-AE19-E6758CE1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85F2F-0840-44E8-A60E-DA9713F52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Basketball" TargetMode="External"/><Relationship Id="rId2" Type="http://schemas.openxmlformats.org/officeDocument/2006/relationships/hyperlink" Target="http://www.besportier.com/archives/air-jordan-23-basketball.jpg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Berlin Sans FB"/>
              </a:rPr>
              <a:t>Free Throw Ma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"/>
              </a:rPr>
              <a:t>Jordan Proffi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25844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Berlin Sans FB Demi"/>
              </a:rPr>
              <a:t>Possible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n.wikipedia.org/wiki/Basket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besportier.com/archives/air-jordan-23-basketball.jp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Berlin Sans FB Demi"/>
              </a:rPr>
              <a:t>Further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 Demi"/>
              </a:rPr>
              <a:t>Basketball is played all over the world. In basketball, when players get a foul the person they foul may get to shoot a free throw. Free throws are worth one point eac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Berlin Sans FB Demi"/>
              </a:rPr>
              <a:t>Acknowledg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 Demi"/>
              </a:rPr>
              <a:t>Thanks to Caleb, Andrew, Henry, Cole, Cameron, and Bri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 Demi"/>
              </a:rPr>
              <a:t>One man can be a crucial ingredient on a team, but one man cannot make a team.</a:t>
            </a:r>
            <a:br>
              <a:rPr sz="3200"/>
            </a:br>
            <a:r>
              <a:rPr b="0" i="1" lang="en-US" sz="2800" spc="-1" strike="noStrike">
                <a:solidFill>
                  <a:srgbClr val="ffffff"/>
                </a:solidFill>
                <a:latin typeface="Berlin Sans FB Demi"/>
              </a:rPr>
              <a:t>-- Kareem Abdul-Jabbar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Berlin Sans FB Dem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Berlin Sans FB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"/>
              </a:rPr>
              <a:t>Free throws are shot when fouled. But can boys make more or less shots with a smaller b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429000" y="3705120"/>
            <a:ext cx="571500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Berlin Sans FB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"/>
              </a:rPr>
              <a:t>Can boys make more shots with the 28.5 or 27.5 basketb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311004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Berlin Sans FB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"/>
              </a:rPr>
              <a:t>I predict that the boys will make more with the 28.5 basketball because that’s the basketball we use normally in practice and ga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3813120"/>
            <a:ext cx="411480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Berlin Sans FB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"/>
              </a:rPr>
              <a:t>28.5 basket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"/>
              </a:rPr>
              <a:t>27.5 basket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"/>
              </a:rPr>
              <a:t>Pap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"/>
              </a:rPr>
              <a:t>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00280" y="1463760"/>
            <a:ext cx="326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Berlin Sans FB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"/>
              </a:rPr>
              <a:t>Gather All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"/>
              </a:rPr>
              <a:t>Test (Shoot 10 Shots Ea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"/>
              </a:rPr>
              <a:t>Write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"/>
              </a:rPr>
              <a:t>Make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"/>
              </a:rPr>
              <a:t>Post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Berlin Sans FB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"/>
              </a:rPr>
              <a:t>Form While Shooting Free Thr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"/>
              </a:rPr>
              <a:t>Str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"/>
              </a:rPr>
              <a:t>Free Throw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Berlin Sans FB Dem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 Demi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erlin Sans FB Demi"/>
              </a:rPr>
              <a:t>	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erlin Sans FB Demi"/>
              </a:rPr>
              <a:t>27.5</a:t>
            </a:r>
            <a:r>
              <a:rPr b="1" lang="en-US" sz="2800" spc="-1" strike="noStrike">
                <a:solidFill>
                  <a:srgbClr val="ffffff"/>
                </a:solidFill>
                <a:latin typeface="Berlin Sans FB Demi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erlin Sans FB Demi"/>
              </a:rPr>
              <a:t>	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erlin Sans FB Demi"/>
              </a:rPr>
              <a:t>28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erlin Sans FB Demi"/>
              </a:rPr>
              <a:t>Caleb-6</a:t>
            </a:r>
            <a:r>
              <a:rPr b="0" lang="en-US" sz="1600" spc="-1" strike="noStrike">
                <a:solidFill>
                  <a:srgbClr val="ffffff"/>
                </a:solidFill>
                <a:latin typeface="Berlin Sans FB Demi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erlin Sans FB Demi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erlin Sans FB Demi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erlin Sans FB Demi"/>
              </a:rPr>
              <a:t>Brian-3</a:t>
            </a:r>
            <a:r>
              <a:rPr b="0" lang="en-US" sz="1600" spc="-1" strike="noStrike">
                <a:solidFill>
                  <a:srgbClr val="ffffff"/>
                </a:solidFill>
                <a:latin typeface="Berlin Sans FB Demi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erlin Sans FB Demi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erlin Sans FB Demi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erlin Sans FB Demi"/>
              </a:rPr>
              <a:t>Andrew-3</a:t>
            </a:r>
            <a:r>
              <a:rPr b="0" lang="en-US" sz="1600" spc="-1" strike="noStrike">
                <a:solidFill>
                  <a:srgbClr val="ffffff"/>
                </a:solidFill>
                <a:latin typeface="Berlin Sans FB Demi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erlin Sans FB Demi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erlin Sans FB Demi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erlin Sans FB Demi"/>
              </a:rPr>
              <a:t>Cameron-5</a:t>
            </a:r>
            <a:r>
              <a:rPr b="0" lang="en-US" sz="1600" spc="-1" strike="noStrike">
                <a:solidFill>
                  <a:srgbClr val="ffffff"/>
                </a:solidFill>
                <a:latin typeface="Berlin Sans FB Demi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erlin Sans FB Demi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erlin Sans FB Demi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erlin Sans FB Demi"/>
              </a:rPr>
              <a:t>Henry-7</a:t>
            </a:r>
            <a:r>
              <a:rPr b="0" lang="en-US" sz="1600" spc="-1" strike="noStrike">
                <a:solidFill>
                  <a:srgbClr val="ffffff"/>
                </a:solidFill>
                <a:latin typeface="Berlin Sans FB Demi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erlin Sans FB Demi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erlin Sans FB Demi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erlin Sans FB Demi"/>
              </a:rPr>
              <a:t>Cole-4</a:t>
            </a:r>
            <a:r>
              <a:rPr b="0" lang="en-US" sz="1600" spc="-1" strike="noStrike">
                <a:solidFill>
                  <a:srgbClr val="ffffff"/>
                </a:solidFill>
                <a:latin typeface="Berlin Sans FB Demi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erlin Sans FB Demi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erlin Sans FB Demi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erlin Sans FB Demi"/>
              </a:rPr>
              <a:t>Jordan-3</a:t>
            </a:r>
            <a:r>
              <a:rPr b="0" lang="en-US" sz="1600" spc="-1" strike="noStrike">
                <a:solidFill>
                  <a:srgbClr val="ffffff"/>
                </a:solidFill>
                <a:latin typeface="Berlin Sans FB Demi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erlin Sans FB Demi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erlin Sans FB Demi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erlin Sans FB Demi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 Demi"/>
              </a:rPr>
              <a:t>My hypothesis was correct. They made more with 28.5 basketball than the 27.5 basketball.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14:16:13Z</dcterms:created>
  <dc:creator>USD376</dc:creator>
  <dc:description/>
  <dc:language>en-US</dc:language>
  <cp:lastModifiedBy>USD376</cp:lastModifiedBy>
  <dcterms:modified xsi:type="dcterms:W3CDTF">2011-02-23T15:51:49Z</dcterms:modified>
  <cp:revision>19</cp:revision>
  <dc:subject/>
  <dc:title>Slide 1</dc:title>
</cp:coreProperties>
</file>